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11.jpeg" ContentType="image/jpeg"/>
  <Override PartName="/ppt/media/image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2.png" ContentType="image/png"/>
  <Override PartName="/ppt/media/image8.png" ContentType="image/png"/>
  <Override PartName="/ppt/media/image14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FD7E0-0F75-4324-AA36-B2EA4A21F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0EACA-7B97-4221-AB0B-83D4FA8E7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7B6E4-5F06-42AE-88E3-56203EE20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60DE2-A0C9-46F6-847C-6DB1FCB13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6FA2A-D755-4EFD-9B71-E06E7260D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B27D8-A2AE-4C2D-AB7B-0934C40EE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05E7A-BD90-40F6-AAD9-64153633E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EB9DA-350C-4B63-8CE1-9224245A7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79140-6D57-476A-A44E-C55CD14EA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5F337-C147-4C3F-B228-C55209B54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41549-C6B2-4BBA-9BDC-7FFAA9D24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D3F53-966F-4E36-B3CC-9382C542D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CC6A1-2F74-4D7D-8609-1B9205323B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hyperlink" Target="https://sites.google.com/a/mpls.k12.mn.us/ell2/w-apt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hyperlink" Target="https://sites.google.com/a/mpls.k12.mn.us/ell2/w-apt" TargetMode="External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mplsesl.wikispaces.com/MDE-WIDA-ProgressMonitor" TargetMode="External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Success Breeds Success” ELD,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“Leveling Up” &amp;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Going for an Easy Wi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943600" y="4648320"/>
            <a:ext cx="2743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John Wolf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ultilingual Department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pt. 14, 201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1" descr=""/>
          <p:cNvPicPr/>
          <p:nvPr/>
        </p:nvPicPr>
        <p:blipFill>
          <a:blip r:embed="rId1"/>
          <a:stretch/>
        </p:blipFill>
        <p:spPr>
          <a:xfrm>
            <a:off x="685800" y="3048120"/>
            <a:ext cx="3438360" cy="3504960"/>
          </a:xfrm>
          <a:prstGeom prst="rect">
            <a:avLst/>
          </a:prstGeom>
          <a:ln w="0">
            <a:noFill/>
          </a:ln>
        </p:spPr>
      </p:pic>
      <p:sp>
        <p:nvSpPr>
          <p:cNvPr id="44" name="Rounded Rectangular Callout 3"/>
          <p:cNvSpPr/>
          <p:nvPr/>
        </p:nvSpPr>
        <p:spPr>
          <a:xfrm>
            <a:off x="3581280" y="3048120"/>
            <a:ext cx="3124440" cy="1295280"/>
          </a:xfrm>
          <a:prstGeom prst="wedgeRoundRectCallout">
            <a:avLst>
              <a:gd name="adj1" fmla="val -79930"/>
              <a:gd name="adj2" fmla="val 25712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Winning isn’t everything; it’s the only thing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~Vince Lombard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4800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ce this is the only writing test they do …</a:t>
            </a:r>
            <a:br>
              <a:rPr sz="1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1) give them practice … and 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Content Placeholder 3" descr=""/>
          <p:cNvPicPr/>
          <p:nvPr/>
        </p:nvPicPr>
        <p:blipFill>
          <a:blip r:embed="rId1"/>
          <a:stretch/>
        </p:blipFill>
        <p:spPr>
          <a:xfrm>
            <a:off x="2971800" y="1066680"/>
            <a:ext cx="3733920" cy="4891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3" name="Picture 4" descr=""/>
          <p:cNvPicPr/>
          <p:nvPr/>
        </p:nvPicPr>
        <p:blipFill>
          <a:blip r:embed="rId2"/>
          <a:stretch/>
        </p:blipFill>
        <p:spPr>
          <a:xfrm>
            <a:off x="304920" y="1828800"/>
            <a:ext cx="3657600" cy="4865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4" name="Rounded Rectangular Callout 5"/>
          <p:cNvSpPr/>
          <p:nvPr/>
        </p:nvSpPr>
        <p:spPr>
          <a:xfrm>
            <a:off x="6629400" y="401760"/>
            <a:ext cx="2438280" cy="5181480"/>
          </a:xfrm>
          <a:prstGeom prst="wedgeRoundRectCallout">
            <a:avLst>
              <a:gd name="adj1" fmla="val -151203"/>
              <a:gd name="adj2" fmla="val 44546"/>
              <a:gd name="adj3" fmla="val 16667"/>
            </a:avLst>
          </a:prstGeom>
          <a:solidFill>
            <a:srgbClr val="f2f2f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We know what the prompt looks like … a 15-20 one-page writing task on a bizarre academic challenge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ow often do students have a chance to practice this over the course of the year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Would it be useful to them to do similar, content-related tasks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TextBox 6"/>
          <p:cNvSpPr/>
          <p:nvPr/>
        </p:nvSpPr>
        <p:spPr>
          <a:xfrm>
            <a:off x="4267080" y="6062760"/>
            <a:ext cx="4419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ownload all the W-APT stuff at the ELL2 Google Apps Site 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s://sites.google.com/a/mpls.k12.mn.us/ell2/w-apt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352680" y="304560"/>
            <a:ext cx="5105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2) Show them what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y’re shooting f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3" descr=""/>
          <p:cNvPicPr/>
          <p:nvPr/>
        </p:nvPicPr>
        <p:blipFill>
          <a:blip r:embed="rId1"/>
          <a:srcRect l="3006" t="0" r="3653" b="0"/>
          <a:stretch/>
        </p:blipFill>
        <p:spPr>
          <a:xfrm>
            <a:off x="5486400" y="1447920"/>
            <a:ext cx="3441600" cy="3200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8" name="Picture 4" descr=""/>
          <p:cNvPicPr/>
          <p:nvPr/>
        </p:nvPicPr>
        <p:blipFill>
          <a:blip r:embed="rId2"/>
          <a:stretch/>
        </p:blipFill>
        <p:spPr>
          <a:xfrm>
            <a:off x="685800" y="125280"/>
            <a:ext cx="2960640" cy="3532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9" name="Picture 5" descr=""/>
          <p:cNvPicPr/>
          <p:nvPr/>
        </p:nvPicPr>
        <p:blipFill>
          <a:blip r:embed="rId3"/>
          <a:stretch/>
        </p:blipFill>
        <p:spPr>
          <a:xfrm>
            <a:off x="2666880" y="3227400"/>
            <a:ext cx="3022560" cy="3430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80" name="Rounded Rectangular Callout 6"/>
          <p:cNvSpPr/>
          <p:nvPr/>
        </p:nvSpPr>
        <p:spPr>
          <a:xfrm>
            <a:off x="7086600" y="4710240"/>
            <a:ext cx="1936800" cy="2133360"/>
          </a:xfrm>
          <a:prstGeom prst="wedgeRoundRectCallout">
            <a:avLst>
              <a:gd name="adj1" fmla="val -119879"/>
              <a:gd name="adj2" fmla="val -27152"/>
              <a:gd name="adj3" fmla="val 16667"/>
            </a:avLst>
          </a:prstGeom>
          <a:solidFill>
            <a:srgbClr val="f2f2f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f sample responses clarify expectations for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us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sn’t it reasonable to provide similar guidance to the students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TextBox 7"/>
          <p:cNvSpPr/>
          <p:nvPr/>
        </p:nvSpPr>
        <p:spPr>
          <a:xfrm>
            <a:off x="457200" y="4800600"/>
            <a:ext cx="18288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ownload all the W-APT stuff at the ELL2 Google Apps Site 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https://sites.google.com/a/mpls.k12.mn.us/ell2/w-apt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3) Easy Win 3? Go WHOLE HOG for ELD Support …</a:t>
            </a:r>
            <a:br>
              <a:rPr sz="2800"/>
            </a:b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mplsesl.wikispaces.com/MDE-WIDA-ProgressMonito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Content Placeholder 3" descr=""/>
          <p:cNvPicPr/>
          <p:nvPr/>
        </p:nvPicPr>
        <p:blipFill>
          <a:blip r:embed="rId2"/>
          <a:stretch/>
        </p:blipFill>
        <p:spPr>
          <a:xfrm>
            <a:off x="914400" y="1371600"/>
            <a:ext cx="7086600" cy="5345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Content Placeholder 3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8305920" cy="6107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629040" y="274320"/>
            <a:ext cx="2057400" cy="345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eb-March: The WIDA ACCES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2" descr=""/>
          <p:cNvPicPr/>
          <p:nvPr/>
        </p:nvPicPr>
        <p:blipFill>
          <a:blip r:embed="rId1"/>
          <a:stretch/>
        </p:blipFill>
        <p:spPr>
          <a:xfrm>
            <a:off x="228600" y="73080"/>
            <a:ext cx="630720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cademic Achieve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5" descr=""/>
          <p:cNvPicPr/>
          <p:nvPr/>
        </p:nvPicPr>
        <p:blipFill>
          <a:blip r:embed="rId1"/>
          <a:stretch/>
        </p:blipFill>
        <p:spPr>
          <a:xfrm>
            <a:off x="1752480" y="1600200"/>
            <a:ext cx="527076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" name=""/>
          <p:cNvGraphicFramePr/>
          <p:nvPr/>
        </p:nvGraphicFramePr>
        <p:xfrm>
          <a:off x="28440" y="228600"/>
          <a:ext cx="9144000" cy="6161040"/>
        </p:xfrm>
        <a:graphic>
          <a:graphicData uri="http://schemas.openxmlformats.org/drawingml/2006/table">
            <a:tbl>
              <a:tblPr/>
              <a:tblGrid>
                <a:gridCol w="2286000"/>
                <a:gridCol w="6858000"/>
              </a:tblGrid>
              <a:tr h="12193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tandards/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Learning Targets-bas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cademic standards as an intellectual James Bond (elegant and daring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4432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Language Intensiv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4x (?)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get the strategy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4x (?)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get the Language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4x (?)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get the poi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3929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WIDA-Inform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IDA core: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dify the language demands of instruction to meet the language abilities of the students.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OW?  </a:t>
                      </a:r>
                      <a:r>
                        <a:rPr b="1" lang="en-US" sz="4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Modify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&amp; support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144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ormatively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ssess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void confounding learning &amp; languag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572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ollaborative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o much to do alo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arder … but not Impossib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extBox 4"/>
          <p:cNvSpPr/>
          <p:nvPr/>
        </p:nvSpPr>
        <p:spPr>
          <a:xfrm>
            <a:off x="1295280" y="1447920"/>
            <a:ext cx="685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upporting ELs’ language-related learning needs…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5"/>
          <p:cNvSpPr/>
          <p:nvPr/>
        </p:nvSpPr>
        <p:spPr>
          <a:xfrm>
            <a:off x="4419720" y="2459160"/>
            <a:ext cx="40384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What you’re aiming for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What language the students can handle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How to use the right langua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How to know if the students are learning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How to get all this don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6"/>
          <p:cNvSpPr/>
          <p:nvPr/>
        </p:nvSpPr>
        <p:spPr>
          <a:xfrm>
            <a:off x="457200" y="2362320"/>
            <a:ext cx="37339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andards-Based /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earning Target Focus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IDA-Informe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anguage Intensiv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rmative Assessmen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llaborativ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822960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he P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533520" y="990720"/>
          <a:ext cx="8229600" cy="5638680"/>
        </p:xfrm>
        <a:graphic>
          <a:graphicData uri="http://schemas.openxmlformats.org/drawingml/2006/table">
            <a:tbl>
              <a:tblPr/>
              <a:tblGrid>
                <a:gridCol w="5790960"/>
                <a:gridCol w="2438640"/>
              </a:tblGrid>
              <a:tr h="914400">
                <a:tc>
                  <a:txBody>
                    <a:bodyPr lIns="68760" rIns="68760" tIns="0" bIns="0" anchor="t">
                      <a:noAutofit/>
                    </a:bodyPr>
                    <a:p>
                      <a:pPr marL="228600" indent="-228600"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a)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turday and after-school Learn-Work-and-Share sessions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ere teachers will develop supports for these five features related to the specific topics, units, learning targets, and state standards they're currently working with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veryo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33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r>
                        <a:rPr b="1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) a Collaboration Institute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rgeted to ESL teachers and collaborating classroom teachers, to explore collaboration more in-dept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c) </a:t>
                      </a: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a NeXT teacher cohort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provide monthly and interim support to first-year ESL teachers and others (ESL teachers and collaborating partners) who have committed to the PD experience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w teachers and some oth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7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) a cohort of teachers pursuing National Board Certification,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o will develop these five key features through carefully focused efforts to document best practices in their classrooms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“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ster Teachers” (cohort already forme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21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(e) a "PD-in-a-box" presentation in which ESL teachers present the five key features to all other teachers in their buildings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twice -- once first quarter, once second quarter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l Staf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f) on-line Moodle Cour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s that support each of these five features at three varying levels of depth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en to all (onlin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19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g) an on-line, public sharing sit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f just-in-time resources,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ere teachers across the district will publish the strategies and supports they're developing (creating, locating) for curriculum-related student learning (and access and use materials developed by their peer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re and more teachers use this 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526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Two Challenges to 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Box 3"/>
          <p:cNvSpPr/>
          <p:nvPr/>
        </p:nvSpPr>
        <p:spPr>
          <a:xfrm>
            <a:off x="4876920" y="1447920"/>
            <a:ext cx="380988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nd at the  same time accomplish grade-level content learning through their (Limited) Englis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TextBox 4"/>
          <p:cNvSpPr/>
          <p:nvPr/>
        </p:nvSpPr>
        <p:spPr>
          <a:xfrm>
            <a:off x="685800" y="1444680"/>
            <a:ext cx="3048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y have to learn English …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5" descr=""/>
          <p:cNvPicPr/>
          <p:nvPr/>
        </p:nvPicPr>
        <p:blipFill>
          <a:blip r:embed="rId1"/>
          <a:stretch/>
        </p:blipFill>
        <p:spPr>
          <a:xfrm>
            <a:off x="914400" y="1935000"/>
            <a:ext cx="2933640" cy="38102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"/>
          <p:cNvPicPr/>
          <p:nvPr/>
        </p:nvPicPr>
        <p:blipFill>
          <a:blip r:embed="rId2"/>
          <a:stretch/>
        </p:blipFill>
        <p:spPr>
          <a:xfrm>
            <a:off x="4737240" y="2514600"/>
            <a:ext cx="4089240" cy="30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wo Measures of Succes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5" descr=""/>
          <p:cNvPicPr/>
          <p:nvPr/>
        </p:nvPicPr>
        <p:blipFill>
          <a:blip r:embed="rId1"/>
          <a:stretch/>
        </p:blipFill>
        <p:spPr>
          <a:xfrm>
            <a:off x="4883040" y="1297080"/>
            <a:ext cx="4251600" cy="35049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"/>
          <p:cNvPicPr/>
          <p:nvPr/>
        </p:nvPicPr>
        <p:blipFill>
          <a:blip r:embed="rId2"/>
          <a:stretch/>
        </p:blipFill>
        <p:spPr>
          <a:xfrm>
            <a:off x="457200" y="2819520"/>
            <a:ext cx="3048120" cy="3043080"/>
          </a:xfrm>
          <a:prstGeom prst="rect">
            <a:avLst/>
          </a:prstGeom>
          <a:ln w="0">
            <a:noFill/>
          </a:ln>
        </p:spPr>
      </p:pic>
      <p:sp>
        <p:nvSpPr>
          <p:cNvPr id="53" name="TextBox 1"/>
          <p:cNvSpPr/>
          <p:nvPr/>
        </p:nvSpPr>
        <p:spPr>
          <a:xfrm>
            <a:off x="304920" y="1676520"/>
            <a:ext cx="3522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nglish Language Develop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7"/>
          <p:cNvSpPr/>
          <p:nvPr/>
        </p:nvSpPr>
        <p:spPr>
          <a:xfrm>
            <a:off x="5334120" y="4883040"/>
            <a:ext cx="3522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cademic Achiev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nglish Language Develop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"/>
          <p:cNvPicPr/>
          <p:nvPr/>
        </p:nvPicPr>
        <p:blipFill>
          <a:blip r:embed="rId1"/>
          <a:stretch/>
        </p:blipFill>
        <p:spPr>
          <a:xfrm>
            <a:off x="2286000" y="1523880"/>
            <a:ext cx="4419720" cy="44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Leveling Up on the WIDA ACCESS test.”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4952880" y="1447920"/>
            <a:ext cx="3581640" cy="4305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9" name="Picture 2" descr=""/>
          <p:cNvPicPr/>
          <p:nvPr/>
        </p:nvPicPr>
        <p:blipFill>
          <a:blip r:embed="rId2"/>
          <a:stretch/>
        </p:blipFill>
        <p:spPr>
          <a:xfrm>
            <a:off x="533520" y="1447920"/>
            <a:ext cx="4095720" cy="4305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714640" y="274680"/>
            <a:ext cx="2971800" cy="597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much growth? 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n average, alittle above average 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Content Placeholder 3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5224320" cy="6400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 rot="16200000">
            <a:off x="-2210040" y="281916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 Closer Loo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Content Placeholder 3" descr=""/>
          <p:cNvPicPr/>
          <p:nvPr/>
        </p:nvPicPr>
        <p:blipFill>
          <a:blip r:embed="rId1"/>
          <a:stretch/>
        </p:blipFill>
        <p:spPr>
          <a:xfrm>
            <a:off x="1066680" y="457200"/>
            <a:ext cx="7898040" cy="5697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4" name="Rounded Rectangular Callout 4"/>
          <p:cNvSpPr/>
          <p:nvPr/>
        </p:nvSpPr>
        <p:spPr>
          <a:xfrm>
            <a:off x="4191120" y="1981080"/>
            <a:ext cx="1523880" cy="1067040"/>
          </a:xfrm>
          <a:prstGeom prst="wedgeRoundRectCallout">
            <a:avLst>
              <a:gd name="adj1" fmla="val -77685"/>
              <a:gd name="adj2" fmla="val 69712"/>
              <a:gd name="adj3" fmla="val 16667"/>
            </a:avLst>
          </a:prstGeom>
          <a:solidFill>
            <a:srgbClr val="f2f2f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bout 60% of the way up … or a 1.1 gain for level 1-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Rounded Rectangular Callout 5"/>
          <p:cNvSpPr/>
          <p:nvPr/>
        </p:nvSpPr>
        <p:spPr>
          <a:xfrm>
            <a:off x="5943600" y="2209680"/>
            <a:ext cx="1295280" cy="1067040"/>
          </a:xfrm>
          <a:prstGeom prst="wedgeRoundRectCallout">
            <a:avLst>
              <a:gd name="adj1" fmla="val -96689"/>
              <a:gd name="adj2" fmla="val 77129"/>
              <a:gd name="adj3" fmla="val 16667"/>
            </a:avLst>
          </a:prstGeom>
          <a:solidFill>
            <a:srgbClr val="f2f2f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…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nd 0.9 levels for Levels 2-3 and 0.8 for Levels 3-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Rounded Rectangular Callout 6"/>
          <p:cNvSpPr/>
          <p:nvPr/>
        </p:nvSpPr>
        <p:spPr>
          <a:xfrm>
            <a:off x="7391520" y="1943280"/>
            <a:ext cx="1143000" cy="1066680"/>
          </a:xfrm>
          <a:prstGeom prst="wedgeRoundRectCallout">
            <a:avLst>
              <a:gd name="adj1" fmla="val -3069"/>
              <a:gd name="adj2" fmla="val 151305"/>
              <a:gd name="adj3" fmla="val 16667"/>
            </a:avLst>
          </a:prstGeom>
          <a:solidFill>
            <a:srgbClr val="f2f2f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aybe about 0.6 levels for Levels 4-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asy Win 1: Discrepant in One Are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they tanked one area, it’s probably an artifact of nerves or confusion/lack of familiarity with the demands of the tes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can probably pop that score up by just supporting the task a few times over the yea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asy Win 2: Writing as a Lev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Content Placeholder 3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291440" cy="5181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1T17:44:20Z</dcterms:created>
  <dc:creator>John J. Wolfe</dc:creator>
  <dc:description/>
  <dc:language>en-US</dc:language>
  <cp:lastModifiedBy>John</cp:lastModifiedBy>
  <dcterms:modified xsi:type="dcterms:W3CDTF">2012-10-12T14:59:13Z</dcterms:modified>
  <cp:revision>33</cp:revision>
  <dc:subject/>
  <dc:title>Building the Plan While Flying It</dc:title>
</cp:coreProperties>
</file>